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941-5261-4D14-AE2C-77B4FF47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6CB-C51B-41AD-BCB1-8ACB909C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B748-8D1A-463D-93D9-EE50F1D5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DD3-FE98-4A97-A76A-04D2C998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602D-C9B8-4DD6-8D0D-744D1283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69B-30DF-4C48-AE16-4E631B79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3E3-2C63-4397-89D0-E5FB90E5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1D6-FB7B-4800-8460-913A16C5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2A6-04AF-44FE-A896-4CB20E8D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B69-F086-47F2-9CC3-D5225D82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FC3-06AC-4AAA-90AB-225914F1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B86-CC6F-462B-A2B2-13C8DB16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5B6D-A259-48F6-BBD5-2623F7122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support@ibase.ru" TargetMode="External"/><Relationship Id="rId2" Type="http://schemas.openxmlformats.org/officeDocument/2006/relationships/hyperlink" Target="http://www.sql.ru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Base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b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митрий Кузьменко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as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уммарное время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600200"/>
          <a:ext cx="8382240" cy="49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38224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73200" y="6437160"/>
            <a:ext cx="42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е время теста – около 100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ный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e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то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240" y="559908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ленне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5.7 ра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ый протокол медленне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.2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1600200"/>
          <a:ext cx="8229600" cy="37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229600" cy="37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наружено, что на многоядерных процессор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ак пр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p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и пр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язк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ak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тому же ядру, что и сервер, увеличивает скорос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p/restor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4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ak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язан к другому ядру, или не привязан, скорость ху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язка к ядру как рекомендация не имеет смы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ние индек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28600" y="1600200"/>
          <a:ext cx="8686800" cy="45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29680" y="6248520"/>
            <a:ext cx="68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bak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сервером при создании индексов миним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ный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e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рви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2008080"/>
          <a:ext cx="8229600" cy="37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08080"/>
                    <a:ext cx="8229600" cy="37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e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з индек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" y="5522760"/>
            <a:ext cx="58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ически, это сравнение скорости вставки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37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37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ние индек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120" y="5522760"/>
            <a:ext cx="77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 создания индексов, одновременно это и производитель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системы сортировк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S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229600" cy="37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37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лияние размера стра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760" y="4913280"/>
            <a:ext cx="84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Base, FB 1.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2.0 при размерах страниц 1024 и 2048 возника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нсивное чтение из базы при записи данных, чего нет при страницах 4096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ше. Такое чтение составляет примерно 60% от скорости записи на дис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кластера файловой системы – 16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760" y="6172200"/>
            <a:ext cx="71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bird 2.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индексов всегда нестабильно по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1295280"/>
          <a:ext cx="8229600" cy="374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22960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4560" y="5446800"/>
            <a:ext cx="57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ица 16к у всех чуть медленнее (кром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B 1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1600200"/>
          <a:ext cx="8229600" cy="37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22960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0160" y="5675400"/>
            <a:ext cx="75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индексов – наоборот, чем больше размер страницы, тем лучше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разница на самом деле не столь существе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373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ы в 2007 и 200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лена существенная разница в скорости между протоко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й быстрый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9 год - пришло время тест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мер кэ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14400" y="1371600"/>
          <a:ext cx="7543800" cy="504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54380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14400" y="6324480"/>
            <a:ext cx="78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влияет, ни на вставку данных, ни на создание индексов (сортиров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ows 7, 64 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4 б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880" y="1219320"/>
          <a:ext cx="8458200" cy="546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458200" cy="54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e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з индек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9920" y="1600200"/>
          <a:ext cx="70041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600200"/>
                    <a:ext cx="7004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ние индек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623960" y="1890720"/>
          <a:ext cx="5896080" cy="39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1890720"/>
                    <a:ext cx="58960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B 2.1 32bi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XP 3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7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4бит ОС на 14% быстрее в сум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авка данных быстрее на 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индексов на 22% быстр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7 64bit, FB 2.1 32bit vs 64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4-битн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B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6%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стрее в сум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авка данных на 12% быстр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ексирование на 3-4% ху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окол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AP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ее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bird 2.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ее все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Base 200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2009 сравнимы суммарно 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bird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bird 1.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хо с созданием индекс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4 бита дают выигрыш на скорости ОС, а не на разряднос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Ивану Писаревск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 н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.1 64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 ядерный процесс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olian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L180G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D 1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2 SA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ков, память контроллера 512м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логических д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гигабайт О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щи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866960"/>
          <a:ext cx="8229600" cy="399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66960"/>
                    <a:ext cx="822960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444240" y="5979960"/>
            <a:ext cx="68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api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ому протоколу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леннее в 4.4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ь скорость проток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ь разницу размеров стра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ь влияние размера кэ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БД, метаданных, перенос данных, создание индек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ь скорость заливки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ь скорость создания индек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ный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765440"/>
          <a:ext cx="8229600" cy="41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65440"/>
                    <a:ext cx="82296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лько да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765440"/>
          <a:ext cx="8229600" cy="41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65440"/>
                    <a:ext cx="82296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19480" y="5979960"/>
            <a:ext cx="54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вставляет данные быстрее всех, включая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лько индек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765440"/>
          <a:ext cx="8229600" cy="419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65440"/>
                    <a:ext cx="822960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4680" y="6056280"/>
            <a:ext cx="74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индексов медленнее 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2.0, как и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ичия не столь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и пожелания присылайте на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pport@ibase.r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темо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ждение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ql.r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ум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Base, Firebird, Yaffil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компан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box.ru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возможность проведения вебин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ходный 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экап промышленной Б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экап 1.6 гигабайт, базовый размер страницы 4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а 3.9 гигабай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 индексам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индексов 3.2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габай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3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3 инд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44197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стовый компью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B Gigabyte MA770-US3 (AMD 7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D Phenom II X3 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GB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eagate ST3160815AS, 160Gb, SATA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, TEMP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itachi HDT721064SLA360, 640Gb, SAT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Д - Seagate ST31500341AS, 1.5Tb, SATA II, (FW CC1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 кластера тома – 16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последних диска работают в режим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ерацион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XP 32bit Professional S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4 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7 Professional 64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1 64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аются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ица между протоко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люч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i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ица между протоколами, без индек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размерами страниц 1024, 2048, 4096, 8192, 163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ключ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i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размерами страни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96, 8192, 163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рость создания индек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ица между полным и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ияние размера страницы на индек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ица между полным и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меч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лияет на скор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bird 2.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ыше создает БД со страницей не ниже 4096 бай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сервер тестировался минимум 2 р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яд замеров использовался как "контрольные". В случае сильных отличий контрольных замеров тест выполнялся целиком еще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е тестов не усредня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решность измерений не превышала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! Разница межд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Server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бнаруж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ows, 32 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 Кузьменко</cp:lastModifiedBy>
  <dcterms:modified xsi:type="dcterms:W3CDTF">2009-12-13T15:02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