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24E-1FD6-4D33-B932-08D9A744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Back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крементальный страничный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вый сборщик мусо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орка мусора – кооперативная, фоновая, комбинированна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текстные переменны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истемные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ent_ip, transaction_id, username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яемые пользователе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db$set_context/get_con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декс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корение сборки мусора, обработки большого числа дублика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дексы по выражения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величен допустимый размер ключа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мера страницы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ени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ived tab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вные курсоры в процедурах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, fetch, close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tinct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ополнение 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first/skip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совместимост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JOIN, JOIN .. USING (…), NATURAL JO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одзапросах всех вид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der by … rows…pla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/de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der by/group by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 алиас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 номеру столбц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ее жесткая проверка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l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by,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использова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иас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начения по умолчанию для параметров хранимых процеду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[LABEL]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тки в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q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тимизатор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олее качественный анализ статистики, улучшающий оптимизацию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i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другие типы выбор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мешанны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field is null, starting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браны все проблемы с композитными индекса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верено на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C-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в системах, использующих явное указание план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on table expres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a as subquery, with recursive a subque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ерархические запрос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recursive a subquery, subquery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жет содержать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on (sybase, db/2, sql 9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… returning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корение вставки запис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корение повторных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тимизато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орка мусо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декс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величена скорость поиска по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.ч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шифрование пароля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1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место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нято ограничение длины пароля в 8 символ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ещен прямой доступ 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urity.f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sec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ботает через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s api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жет работать удаленно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ервер не требует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alSyste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 with desktop (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локальных коннектов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e B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инамическое исполнение "процедурного" кода с клиен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жимы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ut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 - no access restri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user maintenance mode - only SYSDBA may access database, G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ties are inhibited (shutdown as it were in IB/FB1.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le-user maintenance mode - only single SYSDBA connection is allow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base shutdown - all connections are denied except to b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base on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мые изменения и допол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информация (глубина индекса, кардинальность таблиц, количест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ll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 bi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а наблюдается улучшение производительности на 15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о, это приводит к увеличению используемой памяти (примерно в 1.5 раз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 базовый комплек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ходит откровенно слабая утили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Consol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в постав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 (2.5 Mb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е включены никакие инструменты, кроме утилит командной стро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ql, gbak, gifix, gst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трибутивы "пусты" потому, что существует масса альтернативного высококачественного инструментария для разработки баз данных, анализа статистики БД, мониторинга состояния БД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 для разработ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expert.co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платен для России и стран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атистики баз данных и выдача предупреждений и рекоменд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платен для России и стран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та мониторинга динамики транз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комплекта мониторинга состояния сервера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DataGu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готовится к выпус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струменты для всевозможны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рование данных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/Fire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жение за состоянием сервера, анализ состояния баз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баз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ы пользователь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ато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ерсионная РСУБД существует на рынке коммерческих СУБД уже 20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ервера, поддерживающего многоверсионность, обусловило легкость его применения в самом широком спектре задач. На самом деле даже при случайном выборе названия какой-либо известной фирмы, можно на 90% утверждать, что для какой-либо задачи в этой фирме использу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асто бывает, что в разных подразделениях используется и тот и другой сервер). Это большая часть сотовых операторов, многие банки, промышленные предприятия.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каталог подобного ПО, представляющий лишь малую часть программного обеспечения, использующег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, Firebir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ffil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, кто прислал информац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увеличения числа систем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т и объем баз данных. С одной стороны, это увеличение баз данных промышленных систем, которые функционируют несколько лет подряд, а с другой стороны, это новые системы, изначально ориентированные на большой объем данных. В 2002 году число систем с базами размером от 1 до 8 гигабайт нами оценивалось как 15% от общего числа систем, а с большим объемом – на уровне не более 3-х процентов, причем в диапазоне именно от 8 до 980 гигабайт, то есть, такие системы чаще были эксклюзивными. Сейчас, как видите, ситуация изменилась, и даже количество БД объемом от 10 до 50 гигабайт составляют уже 13 проц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этот постоянный, в том числе он обусловлен уменьшением затрат на поддержку таких объемов со стороны аппарат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по 2005 году взяты из информации службы технического сопровожд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роса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.ibase.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информац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рный (ежемесячный) прирост числа посетител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.ru - ~3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исковиков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4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дробно о возможност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7.1/7.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узна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/interb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дробно о возможностях и особенност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узнать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base.ru/firebir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витие проекта 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Source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висит от взаимодействия между пользователями и разработчиками. Если разработчики дорабатывают и улучшают проект самостоятельно, то как правило, такой проект обречен на "полумертвое" существование, из-за отсутствия качественной обратной связи с пользователями, и невозможностью качественного развития проекта в "свободное время". Тем более, это имеет важное значение для сервера баз данных, который сам по себе является сложным продук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ля обеспечения стабильного и непрерывного развит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bir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 ноября 2002 года была создана некоммерческая организац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bird Foundation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торая принимает спонсорские и членские взносы, и направляет их на выполнение грантов или заказов (специальных задач по развитию той или иной функциональност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bird)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обслуживание затрат проекта (тестирование, администрирование, поддержка сайтов и т.п.). Вместе с финансированием существует группа администраторов, или "архитекторов" проекта, которые, обеспечивая тесную связь с пользователям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bird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пределяют приоритетные направления развития (например, представляют 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F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на грант по определенной функциональност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 финансируемых областей можно упомянуть оптимизатор запросов, инкрементальный бэкап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bc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райвер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dbc-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райвер, тестирование, сборка дистрибутивов и многое другое. Независимо от источника финансирования оплаченная разработка обязательно становится доступной всем пользователям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bi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кая организация, в том числе обеспечивает уверенность пользователей в стабильности развития проек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нформац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s Data Corpo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vansdata.com/n2/pr/releases/EDCDB05_01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vansdata.com/cgi/relocate.php?key=db2005_1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количество способов доступа 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bir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максимально возможным по отношению к другим серверам. Легкость использования клиентской части позволила массе разработчиков выпустить свои собственные компоненты доступа и драйверы. На картинке перечислены имеющиеся способы доступа, в самом общем виде, которые покрывают практически все существующие средства разработки приложений. Количество драйверов и компонент таково, что их можно выбрать по критерию "платности" или "бесплатности", по объему функционала, и как правило, в каждом таком секторе можно найти 2-3 вариа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057-8166-4815-BAEA-8D7C7F1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119-1C7C-4E05-A13D-E0D0A96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098-3762-483B-B74E-FEEFE88C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B85-0CA8-4566-994C-35337FD7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225-F344-45F7-B658-2D00427C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FF9-10D3-4DB6-A39D-9B32ABEF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B0B0-1051-48B0-B5D3-C65852A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E14-3CFE-4A64-AC2A-E4450D1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6F38-6A19-480F-991E-A1383BA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75F1-F1CF-42FB-846C-FFCB887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39AC-26B2-41D7-AA87-A534F262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1BA-A9C5-43DB-9EA1-10E27FEB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3953-327F-4652-94CF-97B1FB7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8012-7F6E-454A-9EE2-37496AA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CAA7-A33E-48E5-B9D2-937C34D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4E5-3E83-4C34-AA3F-CB2188D3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F68-2F85-4E8A-916B-90558560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342-A9E0-4472-8A19-20B582B1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C41-89F6-41A5-87A9-76E77FE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388-4552-4CCD-AB83-C4169B70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095-4E1B-4F14-967C-CEC0D42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9AE-ED23-4191-91D1-847EDBC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88C-D550-4BFB-97BC-249C795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64A-8520-4B8C-A5A5-0CE5E0C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85EF-B41A-4297-B1C3-D0121F7E6FA9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DFA7-C8EB-4AA3-A8B5-3FDC57AE498C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nterBase </a:t>
            </a: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и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Firebird: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Развитие и перспективы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013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узьменко Дмитрий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ase.ru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Firebird 2.0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1788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крементальный странич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сборщик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структура индек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ный идентификатор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ято ограничение 36 гигабайт на 1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emporar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баз данных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екст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Дальнейшее развитие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ельность и масштабиру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данных статистики для оптимиз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(amd64, sparc 64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тестовые вер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plugins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а на операции уровня серве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, create…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рав для объектов БД, поддержка авторизации сетевым протоколом (обмен ключ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е процедуры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, C/C++, Delp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монито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е таблиц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айл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рибутив 2.5 мегаб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оспособность через 20 секунд после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ые дистрибутивы для основных плат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е требования к ресур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705800" cy="6429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99736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IBConsole 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125360"/>
            <a:ext cx="8353440" cy="4751640"/>
          </a:xfrm>
          <a:prstGeom prst="line">
            <a:avLst/>
          </a:prstGeom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4000" y="1628640"/>
            <a:ext cx="8208720" cy="4608720"/>
          </a:xfrm>
          <a:prstGeom prst="line">
            <a:avLst/>
          </a:prstGeom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640" y="2014560"/>
            <a:ext cx="698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900" spc="-1" strike="noStrike">
                <a:solidFill>
                  <a:srgbClr val="ff0000"/>
                </a:solidFill>
                <a:latin typeface="Arial"/>
              </a:rPr>
              <a:t>НЕТ!!!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Exper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2652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Analys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1406520"/>
            <a:ext cx="806436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IB Transaction Monitor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374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Data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Data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жение за функционированием серв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FirstAid Ambu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ремонт баз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еский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3068640"/>
            <a:ext cx="816768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iba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монт баз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ж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Спасибо за внимание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3640" y="1197000"/>
            <a:ext cx="8280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157720"/>
            <a:ext cx="2808360" cy="574920"/>
          </a:xfrm>
          <a:prstGeom prst="rect">
            <a:avLst/>
          </a:prstGeom>
          <a:solidFill>
            <a:srgbClr val="a808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Base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04640"/>
            <a:ext cx="0" cy="5832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021360"/>
            <a:ext cx="4319640" cy="574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Base 6.0 Open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149720"/>
            <a:ext cx="2808360" cy="574560"/>
          </a:xfrm>
          <a:prstGeom prst="rect">
            <a:avLst/>
          </a:prstGeom>
          <a:solidFill>
            <a:srgbClr val="a808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Base 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708280"/>
            <a:ext cx="2808360" cy="574560"/>
          </a:xfrm>
          <a:prstGeom prst="rect">
            <a:avLst/>
          </a:prstGeom>
          <a:solidFill>
            <a:srgbClr val="a808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Base 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557360"/>
            <a:ext cx="2808360" cy="574560"/>
          </a:xfrm>
          <a:prstGeom prst="rect">
            <a:avLst/>
          </a:prstGeom>
          <a:solidFill>
            <a:srgbClr val="a808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Base 7.1/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3141720"/>
            <a:ext cx="2448000" cy="574560"/>
          </a:xfrm>
          <a:prstGeom prst="rect">
            <a:avLst/>
          </a:prstGeom>
          <a:solidFill>
            <a:srgbClr val="ff8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bird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1916280"/>
            <a:ext cx="2448000" cy="574560"/>
          </a:xfrm>
          <a:prstGeom prst="rect">
            <a:avLst/>
          </a:prstGeom>
          <a:solidFill>
            <a:srgbClr val="ff8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bird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49360"/>
            <a:ext cx="4176720" cy="574560"/>
          </a:xfrm>
          <a:prstGeom prst="rect">
            <a:avLst/>
          </a:prstGeom>
          <a:solidFill>
            <a:srgbClr val="ff8c01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bird 2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221000"/>
            <a:ext cx="2447640" cy="57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f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537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4520" y="501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520" y="3573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4520" y="23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55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4520" y="112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Системы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хгалте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ое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иражируемые приклад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Объемы данных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440" y="1936800"/>
          <a:ext cx="845496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936800"/>
                    <a:ext cx="84549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 Black"/>
              </a:rPr>
              <a:t>Особенности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erBase 7.x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дан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ные системны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p$attachments, tmp$state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ны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global temporary t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Linux, So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Особенности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Firebird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, COALESCE, NULL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ширенный список платформ (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, FreeBSD, Linux, Mac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pen Source</a:t>
            </a:r>
            <a:r>
              <a:rPr b="0" lang="ru-RU" sz="3600" spc="-1" strike="noStrike">
                <a:solidFill>
                  <a:srgbClr val="000066"/>
                </a:solidFill>
                <a:latin typeface="Arial Black"/>
              </a:rPr>
              <a:t> –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irebirdsql.or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060640"/>
            <a:ext cx="324000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ый код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2997360"/>
            <a:ext cx="3240000" cy="17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860640"/>
            <a:ext cx="324000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i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995280" y="3141720"/>
            <a:ext cx="13683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365720"/>
            <a:ext cx="180036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4160" y="486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268280"/>
            <a:ext cx="0" cy="13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940360" y="1268280"/>
            <a:ext cx="0" cy="136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66000" y="1863720"/>
            <a:ext cx="23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ов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трибу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437000"/>
            <a:ext cx="302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000" y="4797000"/>
            <a:ext cx="1429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720" y="5805360"/>
            <a:ext cx="43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упления от спонс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член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DC, 2005, OpenSource RDBM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2200" y="1487520"/>
          <a:ext cx="849960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487520"/>
                    <a:ext cx="84996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 Black"/>
              </a:rPr>
              <a:t>Компоненты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Soft, Gemini, Firebird, XT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X, FIB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– InterClient, Jay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– BDP, Firebird .Net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Express, U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Objects, Ze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P, Zope, DBD,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PP, IBClasses, FireFoot, ibase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7:52:26Z</dcterms:created>
  <dc:creator>Dmitri Kouzmenko</dc:creator>
  <dc:description/>
  <dc:language>en-US</dc:language>
  <cp:lastModifiedBy>Dmitri Kouzmenko</cp:lastModifiedBy>
  <dcterms:modified xsi:type="dcterms:W3CDTF">2005-04-20T19:56:00Z</dcterms:modified>
  <cp:revision>44</cp:revision>
  <dc:subject/>
  <dc:title>InterBase и Firebird: Развитие и перспективы</dc:title>
</cp:coreProperties>
</file>